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9.png" ContentType="image/png"/>
  <Override PartName="/ppt/media/image20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21.gif" ContentType="image/gif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92CE-BEB1-4A37-BCD6-690672378D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33DE-6C51-4240-BD63-22F0161C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15DD83-1B57-4CB2-BB14-BBE57046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9876B9-3AC0-4584-81F2-1A8F7E29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C628E9-4BDF-4CCB-8320-60795285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6C93F-DA2F-4F1B-B551-21542D07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9B7327-A01E-4633-960D-55D0B821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6847EC-AD3D-46F5-B21A-33F3EEF5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6DDB52-AFB5-4F81-8C0C-968CFA3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87EC92-6575-4CC4-86B4-D74CA7E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29FCB0-56E4-47B4-965E-DB160546D4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1A547-C247-4711-8F2C-7ED717423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016C-C643-4C3B-9D3F-8581D179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FFB0-58FF-4564-932A-3EF2071A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3143-DE81-4244-B585-3BE80211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B3191-1D34-4AF9-95D1-DE8AF10F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C729-6D1B-4BFA-9F60-EB4F4716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65EE1-435C-469C-8430-D4BFACEE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45EF1-8193-4654-BE29-86AE9EE6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5D0CC-E590-4AD1-A709-215493AB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A2472-5CA6-4F01-B24B-F5F8D7BF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97587-369F-4BD0-A731-ADD2DFD5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6558-9C5B-4ACD-B2B7-D4D5229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4C99-8E1F-4FC4-8B45-FB299E050B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03112-0CC1-4F8E-8F98-FEF38996B7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86B06B-928A-4243-AE4D-68BD3B340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D6B1CB-47D8-4BE8-8633-DE412D81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8A8726-6220-4406-8352-5697CF0C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AFABB6-03EF-4FB2-AA9B-97590D78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F77DEB-C5E7-46A5-8894-87AC153C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EDA969-3E19-46EE-8F0B-169DBC5A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B6AC6-8DDE-4A5F-8743-5EA0C393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D339B2-21F6-4EF9-ADFD-C88D8220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904B3B-C31B-4673-93C9-07EB6D3D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79551-7D6F-4642-897A-CDAED135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F6FFC-E93E-4820-A99F-DF9D9F0C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125DE-2EAC-421B-816F-7019DD8A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6A4E9-182E-4FAC-A5E3-81FEAC4EC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05994-32D1-4A4B-A7E5-8C508C0461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2964B-EEE3-441D-BBCA-565CFB82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DF4D2-BD78-419F-8B36-E855A4F9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0A21E-C1D6-4167-85DB-6550D931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E42DC-6EC4-4D46-8512-5D45F0C1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7A6C1-8541-4262-B6EF-432EF4C8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94C85-6464-48CE-8002-A61BAAD9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CDE6-20BB-4494-BE49-97D64374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BCDC0-8006-4C05-8B2C-9A100999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FA156-7B87-4C47-AAD9-7487FD6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57B46-7DC1-44CB-A031-561DAB40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4AF4A-40B8-49CA-B8CA-8985FCA7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E2B3B-4761-44F5-95FC-F5ED56535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9D27D-1B60-47C1-8ABB-F3B81D7CE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0003F-381C-428E-B324-6E83964D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CED1D-DC9F-4566-A53D-307262BB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7C31B-756B-4750-92FB-000B9E9C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18FF8-B4FB-4576-A136-81349858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43862-F526-4871-AE14-E90C97A7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8D997-D68C-48D7-BCE6-35F3AF5D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55D17-5761-40CD-86D1-824B8A6F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26C86-9CA0-4E12-BC17-5A7A4586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248B6-6783-4509-A01D-68FC5BB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E73FF-C808-493F-A54B-69C7174A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FC6B8-5282-4E0C-9E41-32A8D31A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A5B15-A370-4A62-B35A-C711B4717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65CB8-D57F-4559-839B-76E93899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89483-F0A2-427E-83D0-9B284467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10DFA-2304-4C7E-A6B8-C41F2998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D1AAB-D32E-4771-B88D-31942E1C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B2C4D-D85E-4905-AB83-C9E5B328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84A45-5C38-4E75-8485-123EBAA3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58B0D-5B1A-4F29-B6CB-7E7A23CD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5058A-AA7C-4F59-9651-58F7252C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E4CF9-E956-4F1B-AD70-DECCCA6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9E4C9-F990-4B47-ABEF-45FC8F5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22EE2-0BD2-491B-BDAD-EFD2F8C4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8210E-DE4A-4148-8044-62814792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0A39F-29DB-4536-BB24-BA4F4D1A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5F582-CEE0-4E3E-88DD-100053FD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44000-DB80-4ED3-A87E-B14125A8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21B32-1344-4146-BDEB-8CF94E8D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CC8CE-CF37-4226-9756-2388F049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07239-1409-4D21-93AC-F6B966BC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D73D1-0D34-4470-96BF-6CF862B0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661CA-1936-4E6C-BFAF-4CA051C4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26650-41BA-46FC-9009-4CBD531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50E9F-5333-448C-9A30-27FC3D93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A7318-DF34-44F4-AE48-37A5F351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74272-9F47-41C8-B80D-690FB1A7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70B90-3F52-40CA-9566-158BE7B8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F6D17-EB9A-44EF-82CF-187EFD89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7735F-FC49-4737-A133-39C713C2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11583-E697-4484-B430-1951C234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44B35-2E75-4D32-8081-FAEC6C50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7B538-C83D-4A6C-A590-7306E5F4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E2A1E-9BA0-4D74-8CCC-D0957788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4EB18-79D0-4821-B02D-100758B7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2DF70-9F51-482F-8F88-E0F85AB7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A708E-1E83-4C06-8F18-E953106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F8C8A-94E4-4139-80E3-67E67E7E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4CC69-7EBF-4F7D-99AB-CDD1D305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D00DD-23DA-4A56-91F9-4A24EC1A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A90A8-15CF-4870-AC74-EB2CCD57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A1B08-AFD2-4186-A7CF-179BFF12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7025A-8CA9-4604-8413-0C535981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01560-41F5-4586-B23A-CFCCB025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FF184-7323-4616-94F2-F4FFD771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5FBF6-AE5C-403C-8397-3DCE1311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004D5-196F-4407-8DDC-1FE44B05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C7121-CE1E-42D4-B3D1-2DD1BAB6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F98C8-9C16-4D31-8B70-6E3762A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6E29E-3AA6-4F16-990B-638B4AC4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B304-46D0-4A73-8E4F-24D946B1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02997-D3B3-472D-BA97-341B88B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EEAC6-D6A4-4FF4-8077-DFC9EFD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21D1D-789C-4343-8FC0-725509F0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84FDD-B55D-4505-AE16-917CA80E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00136-A658-4EC7-92F8-77ED2429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C8A34-94F2-43A9-A8F2-0448B84B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7CCC5-A7DC-4097-BE7B-1D1680E0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ED7A5-B4DF-43C5-87DF-EE711A8F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28C75-D403-4753-A7E0-5866009F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F6112-E00C-423B-8E01-7DE3EE2F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D2732-D6DD-40C3-A553-8ED2D8BE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30079-E62E-491A-AA8F-70C6908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90DF2-1293-4F31-846C-21F38C7C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F8D1A-E3A3-48BF-A9ED-1FB1C29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CA6AC-D2D1-405C-8CF9-BF156FC4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ABA53-4AFC-44C1-BEE5-1C9E4C2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551B2-A2BE-40FE-B04B-E4DE9B2D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67F72-C58E-473D-9158-30CB1B4B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BA2D4-F667-46BD-9290-A8203EDB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1B4BF-6F9D-4C2D-88A6-87CD017F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6F62A-5083-4348-9AB3-506A02A1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C62E7-68CD-4250-A187-FE190757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6213E-1F86-48E3-96C0-007206CD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99735-579B-4BDD-9DBA-80F15EA3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D4908-BBC1-439A-A529-0D27143B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34B8F-5AD0-4E95-9C30-5BD0C1B4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DD765-F68A-43C8-A735-2C479810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8E67C-2C63-414A-81C5-58E4A8FF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FBDB8-51F6-4502-B358-17F305BE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F08790-C241-4CBE-8FBC-A3AE4283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62CD1-E328-4940-9EF1-C93DB993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624A7-F9FF-48FA-9CB7-102F2E6D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F0CC8-C7C0-4424-886A-5D77C746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051A8-74E0-49FC-8771-86B470A3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C6148-DE70-4E08-A418-F1D7A83E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A43D0-B82E-4498-97D0-448FAE1D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EEE52-ACAA-47E3-B3AF-72D2132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34975-F9B2-4712-AF79-F0F1DD80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ECA7F4-73FB-423D-B668-43768F1A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99B50-02FD-4254-9CB0-C764E4D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0F2C0-5074-49B8-A521-8822F49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97989-8841-4CB4-8F6F-3F1B1F9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83ABD-9E7A-4782-A52D-661853E9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0117D-28C5-4D2D-BBA1-83078B0B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9D51D-19E7-40A5-90B9-D3CBB50D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65A52-52B3-43AC-99E4-8C7AB299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4344D-92E4-42A6-A217-54EF3D2D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C4CBB-2AA7-4E78-B0D4-A2C53410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555A4-3B0F-4F0A-B458-66D57183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478AA-68B0-487B-98E1-5F20423F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A13E1-5403-4822-9583-11131141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1F75E-38BE-441C-8A2C-31989669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8AE05-4BAB-462D-B2DC-86E3BAC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59A61-5E01-45A2-B109-8C08320D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B957B-DED0-4149-B2EB-FA1391A7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3188C-2A5A-4804-849F-AA5DE16C65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64DBD-EC82-4173-8164-1D3472AA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22C2C-E0B7-4DFB-8F0A-E17F4BCC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815583-EB66-4517-BE43-2E31F6C6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769C5A-1CCE-4E2B-B541-8E868A26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0054E-0A8A-408B-B024-BD61EC3D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363D8-75B6-4FE2-AEEF-5DCD5203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4FAE8-1ED9-4C2B-A26A-E431D00E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0728A-C23B-4E48-970C-859E7294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BEC54B-C516-48F9-AD3A-7F4FF57B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2247B-7D25-4EF3-9AD9-EE93934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5BCC83-9C0A-4F5F-8B50-2E08C7A7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B9C87-2872-4C67-A783-56B22CD6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C5398-DCE4-4FC0-BD9C-F594E7ED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A2BC4-95A7-4A84-9A83-BB93269B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95F2A-BE6A-4BC9-ADE1-424216BA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8E2B8-F8D7-4E6A-BE5B-0C6FC0DE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1F3E66-0883-4A24-89A5-051574BE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35F5B9-983E-4EEC-A483-6E4C6DE3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BE34A-67FF-46DE-BE05-43043128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014107-934C-4A7B-8656-556C3CD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6F862-7258-4F9A-BD62-C2D5DAD2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2162C-0F0A-49AF-9FA5-5871A398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53C7E-F33B-4447-AD6D-2D43182C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C2701-E1FB-4C83-AE40-1C81A22E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60A9D5-DB9C-4C91-9DFD-665590E5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E61540-0801-49C5-9D46-9BA3DAF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5ABD3-E425-49C8-8966-3CB8A824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7CBAF-70D5-4D3C-9D91-D209AE2C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0ECBC-3CF8-488A-9045-2E067B36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81F28-1297-47AF-8A91-E6549DFF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21716-8490-453E-9859-CF8B8692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1F9B3-3930-4A96-B051-056ED6A3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C6435C-23B5-4D72-BFA0-9054B033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F9802-CC8E-4184-9089-417FE6AB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EA97C-A8B9-4F3B-86ED-A2EA32E4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4559C-FE2F-4903-86B8-440AB283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1D825-6A05-43A8-BBD0-FC78FB9F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1B022-3A0A-49E3-BA33-60530D73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ADA9F-76AD-455B-94BA-5D802470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478FD2-1C8F-491B-B176-5DE580B0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E442A-143C-41D1-9D98-9A705860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F1B01-5704-4415-80B2-662CBB02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0993B-0F31-4DD2-B574-641EA607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4E30-6F63-451C-AEF9-BC684E45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44E2EE-8CF9-4646-ABD2-51D1F7B7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F85D0-0133-4CC4-B208-9A386A59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250CF1-7B7E-4CBB-A567-1D7B7B6E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7F93D-840E-4C79-9F44-28AFC236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06C6E8-2C15-4957-A0DA-3584EB75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9C083C-1101-40CF-A165-49E9E59C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4726E-A058-4195-9EB7-C7836DCADC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CEA8-7857-45F0-BDD4-E7887F1C56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4701-B8A1-4937-B5E5-F1A0926E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90DB-9577-43D1-8857-B49077BB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8AD1-CBF1-43A3-984A-7D1B909B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EC59-0879-4125-A1E3-276940B4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AF97-16A1-4485-A10F-A26FA204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302D-F8D7-4612-A41C-23EC2772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ED62-E227-45C4-97A4-FDF07C0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F1A8-59E0-484D-9702-E499A984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399F-4CD9-41E7-8FE2-A865E3B9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4E81-A2EA-47A9-AE0B-5184519E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E6EB-34DE-47E5-8095-5E275213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9660-FF50-4274-B7CC-F6BA769F3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A2C14-E168-4D4B-BF2E-744570B63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036F-5E5B-4F65-BAE7-323373B0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926A0-2102-4F16-9E8A-262F7C7F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9E1D0-4009-41FD-852E-E781E363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E0E92-CE44-43B6-BA55-6EDF715B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E8E17-110D-451E-B137-3A4E4B6A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3CCC0-CE83-4FB2-88BF-D526417B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2B264-EBE1-4B09-AD5F-63B75F5A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206BB-B487-41D1-AFCE-9D77039D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75DC2-32ED-4E55-85A2-0150360F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5532A-400E-4D86-A12B-59C7C2ED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BF762-E266-4BA5-BB09-21D53223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0A5F-2005-45FE-B50E-9EB4DB38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3D563-8103-4B7B-AF46-0610737EB8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84F7A4-C7B9-48CE-84F4-556DDC91D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9D0861-B710-40E9-85EF-DD432419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D8E359-0C6B-42B1-A6F2-9ED4BC1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F14E6-5E1D-4177-8C75-4A6E757F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5AA974-A76E-4F52-9DEA-0E1B72B8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62C7A9-1C5E-4DB2-B030-4322E744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41CCA7-F826-434B-A70F-E694F122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1E3F0-1559-4F40-A1F6-A910142B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21C692-FAC0-4286-AA47-F665B9F5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854D-3CC7-4657-B613-25F67357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0AEA1-8C04-4573-9CAF-4F5FE2F2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8F8DA0-D774-46A6-A8C2-653F3D5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4C1409-9ECE-491B-8DDA-3293F6B6F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9AD88-284C-441D-83DA-778C3C1E2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D91B-4CB9-4F52-B722-DEDCC6E5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5E97-599F-480A-BA4F-F4805C81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C2015-AE48-49BF-9B30-6AD07FFA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88248-0ED8-4ED6-B9B3-D9C26796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3F36F-D282-411D-9195-7021C0C4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A4A0-FDE1-4743-876E-AC2FCD4D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AA1B-8977-4FC5-A6AD-75C8D071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69DCC-492D-43A1-BCB0-D2F4C21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87283-EA40-45E9-80D5-D8FAB006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FB0E-9111-4273-87EE-D4B1D2C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878C-2D2A-4489-AACE-FADA517C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0B04-AB28-440C-A936-9AD9689FC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1EF87-BB05-4C71-8FB3-2BD091E7A1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AED9D-BACE-4400-BA18-C2FFC467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97170-FAE4-4082-9618-229B23D7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23357-E39C-4A0C-8968-36F0D892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D44EA-9EC2-40BA-A5CA-96E7BF3E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F0F6-21FA-4947-8080-BD8A197C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D14E2-2FA7-4243-9902-F72A7C11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F5F29-36AC-480F-86B4-9B69F420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620D9-D259-4DAD-B52E-BCFF42B3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D575F-8118-40BB-AE3C-4B34F35A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999FF-4BD8-4443-9517-85574B58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4C464-8F75-4124-8E94-C30F26C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3B8F5F-7C5E-43E6-9D31-AB557BD0A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40351-A3BA-4BBF-8D81-AE9EC132C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81795C-0766-4B8E-94E0-6E3D2547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C23615-8F44-4A6D-B62C-D2536C65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CFD7-38F9-44A1-8655-D8955DFEE1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DAB5-B8E2-4A88-975A-4B7BBD1543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604D-447A-4E06-BE03-620D1792BE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9579-F6F4-4061-9264-0082141677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1CBD-B713-4986-B04C-BE68F750646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CD0A-7E4C-42A9-BA86-960D4C0AEB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8BFC-BB79-4E31-BB3D-E59C36B43D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3488-F628-4320-9688-DE7CB3E9A91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BCAC-5641-479D-B271-FB18208E6C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C028-3DC9-4959-AEE5-BDC26D845E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3191-9EF5-4032-8019-D121487C3CD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4913-9BCB-4163-BDC3-65792EEDDB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0610-588E-400A-ADAD-FB50ACA14E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C373-C189-404B-AB99-D637F3FEB7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999A-58F3-4CDA-BBF8-B02AB0D13E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989F-5B4D-4EE0-8881-FF3508543E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CF4-F994-456F-9296-990F9C15C0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B4F3-0201-4997-B93E-1C60B16F2F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72F3-D2C9-40F7-8081-429053C457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ADF5-0C00-46E6-9584-D0F969288B9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74AB-E2DE-4E9B-B80F-73351C5491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97D9-E95E-47D8-9B4E-2365A4237B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80F2-FB6B-4F5A-A8E3-39633893DE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4998-CDDB-4107-AD88-A6F6C37E06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6284880" cy="360"/>
            <a:chOff x="2284560" y="2448000"/>
            <a:chExt cx="62848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6284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628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87480" y="1744560"/>
            <a:ext cx="88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以内的加法和减法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1893960" y="279072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1316160" y="2749680"/>
            <a:ext cx="651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三 位 数 加 三 位 数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25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3" name="文本框 1"/>
          <p:cNvSpPr/>
          <p:nvPr/>
        </p:nvSpPr>
        <p:spPr>
          <a:xfrm>
            <a:off x="293760" y="922320"/>
            <a:ext cx="64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数学门诊（将不正确的改正过来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文本框 3"/>
          <p:cNvSpPr/>
          <p:nvPr/>
        </p:nvSpPr>
        <p:spPr>
          <a:xfrm>
            <a:off x="441360" y="1725480"/>
            <a:ext cx="80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  5  9                      6 5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+ 8  7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+ 7  9 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 2  2  9                    1 3  5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4"/>
          <p:cNvSpPr/>
          <p:nvPr/>
        </p:nvSpPr>
        <p:spPr>
          <a:xfrm>
            <a:off x="441360" y="394020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 6 2                  6 9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+   5 9 8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+   3 0 6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 3 6 0                  9 9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组合 21"/>
          <p:cNvGrpSpPr/>
          <p:nvPr/>
        </p:nvGrpSpPr>
        <p:grpSpPr>
          <a:xfrm>
            <a:off x="2482920" y="1441440"/>
            <a:ext cx="2436840" cy="1657440"/>
            <a:chOff x="2482920" y="1441440"/>
            <a:chExt cx="2436840" cy="1657440"/>
          </a:xfrm>
        </p:grpSpPr>
        <p:sp>
          <p:nvSpPr>
            <p:cNvPr id="1237" name="文本框 22"/>
            <p:cNvSpPr/>
            <p:nvPr/>
          </p:nvSpPr>
          <p:spPr>
            <a:xfrm>
              <a:off x="2482920" y="144144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 5 9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    8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直接连接符 23"/>
            <p:cNvSpPr/>
            <p:nvPr/>
          </p:nvSpPr>
          <p:spPr>
            <a:xfrm>
              <a:off x="2667600" y="2577240"/>
              <a:ext cx="1433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文本框 24"/>
            <p:cNvSpPr/>
            <p:nvPr/>
          </p:nvSpPr>
          <p:spPr>
            <a:xfrm>
              <a:off x="3080880" y="2577240"/>
              <a:ext cx="124092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4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组合 26"/>
          <p:cNvGrpSpPr/>
          <p:nvPr/>
        </p:nvGrpSpPr>
        <p:grpSpPr>
          <a:xfrm>
            <a:off x="6647040" y="1527120"/>
            <a:ext cx="2436480" cy="1571760"/>
            <a:chOff x="6647040" y="1527120"/>
            <a:chExt cx="2436480" cy="1571760"/>
          </a:xfrm>
        </p:grpSpPr>
        <p:sp>
          <p:nvSpPr>
            <p:cNvPr id="1241" name="文本框 27"/>
            <p:cNvSpPr/>
            <p:nvPr/>
          </p:nvSpPr>
          <p:spPr>
            <a:xfrm>
              <a:off x="6647040" y="1527120"/>
              <a:ext cx="2436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5 8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7 9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直接连接符 28"/>
            <p:cNvSpPr/>
            <p:nvPr/>
          </p:nvSpPr>
          <p:spPr>
            <a:xfrm>
              <a:off x="6832440" y="2665440"/>
              <a:ext cx="1433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文本框 35"/>
            <p:cNvSpPr/>
            <p:nvPr/>
          </p:nvSpPr>
          <p:spPr>
            <a:xfrm>
              <a:off x="7038000" y="2651400"/>
              <a:ext cx="16542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4 5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组合 1"/>
          <p:cNvGrpSpPr/>
          <p:nvPr/>
        </p:nvGrpSpPr>
        <p:grpSpPr>
          <a:xfrm>
            <a:off x="6789600" y="3768840"/>
            <a:ext cx="2436840" cy="1571040"/>
            <a:chOff x="6789600" y="3768840"/>
            <a:chExt cx="2436840" cy="1571040"/>
          </a:xfrm>
        </p:grpSpPr>
        <p:sp>
          <p:nvSpPr>
            <p:cNvPr id="1245" name="文本框 3"/>
            <p:cNvSpPr/>
            <p:nvPr/>
          </p:nvSpPr>
          <p:spPr>
            <a:xfrm>
              <a:off x="6789600" y="376884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9 4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3 0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直接连接符 4"/>
            <p:cNvSpPr/>
            <p:nvPr/>
          </p:nvSpPr>
          <p:spPr>
            <a:xfrm>
              <a:off x="6975000" y="4906800"/>
              <a:ext cx="1433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文本框 6"/>
            <p:cNvSpPr/>
            <p:nvPr/>
          </p:nvSpPr>
          <p:spPr>
            <a:xfrm>
              <a:off x="7180560" y="4892760"/>
              <a:ext cx="165456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0 0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4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51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9" name="文本框 99"/>
          <p:cNvSpPr/>
          <p:nvPr/>
        </p:nvSpPr>
        <p:spPr>
          <a:xfrm>
            <a:off x="279360" y="108252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果园里有桃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6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棵，梨树比桃树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棵，梨树有多少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文本框 1"/>
          <p:cNvSpPr/>
          <p:nvPr/>
        </p:nvSpPr>
        <p:spPr>
          <a:xfrm>
            <a:off x="1700280" y="2346480"/>
            <a:ext cx="34560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8+57=42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文本框 3"/>
          <p:cNvSpPr/>
          <p:nvPr/>
        </p:nvSpPr>
        <p:spPr>
          <a:xfrm>
            <a:off x="1297080" y="3618000"/>
            <a:ext cx="5219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梨树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2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2795760" cy="525600"/>
            <a:chOff x="0" y="101520"/>
            <a:chExt cx="279576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25640" y="101520"/>
              <a:ext cx="26701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369000" cy="272160"/>
              <a:chOff x="0" y="197280"/>
              <a:chExt cx="369000" cy="272160"/>
            </a:xfrm>
          </p:grpSpPr>
          <p:sp>
            <p:nvSpPr>
              <p:cNvPr id="1001" name="椭圆 3"/>
              <p:cNvSpPr/>
              <p:nvPr/>
            </p:nvSpPr>
            <p:spPr>
              <a:xfrm rot="16200000">
                <a:off x="229320" y="363600"/>
                <a:ext cx="954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760" y="339480"/>
                <a:ext cx="20124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29320" y="241200"/>
                <a:ext cx="954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760" y="213480"/>
                <a:ext cx="20124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9808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808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9808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9808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20130508162826-649781831.jpg"/>
          <p:cNvPicPr/>
          <p:nvPr/>
        </p:nvPicPr>
        <p:blipFill>
          <a:blip r:embed="rId8"/>
          <a:stretch/>
        </p:blipFill>
        <p:spPr>
          <a:xfrm>
            <a:off x="857160" y="3929040"/>
            <a:ext cx="3222720" cy="2214720"/>
          </a:xfrm>
          <a:prstGeom prst="rect">
            <a:avLst/>
          </a:prstGeom>
          <a:ln w="0">
            <a:noFill/>
          </a:ln>
        </p:spPr>
      </p:pic>
      <p:grpSp>
        <p:nvGrpSpPr>
          <p:cNvPr id="1010" name="组合 5"/>
          <p:cNvGrpSpPr/>
          <p:nvPr/>
        </p:nvGrpSpPr>
        <p:grpSpPr>
          <a:xfrm>
            <a:off x="857160" y="785880"/>
            <a:ext cx="7358040" cy="5500440"/>
            <a:chOff x="857160" y="785880"/>
            <a:chExt cx="7358040" cy="5500440"/>
          </a:xfrm>
        </p:grpSpPr>
        <p:pic>
          <p:nvPicPr>
            <p:cNvPr id="1011" name="Picture 2" descr="D:\我的文档-桌面-收藏夹\桌面\丹顶鹤.jpg"/>
            <p:cNvPicPr/>
            <p:nvPr/>
          </p:nvPicPr>
          <p:blipFill>
            <a:blip r:embed="rId9"/>
            <a:stretch/>
          </p:blipFill>
          <p:spPr>
            <a:xfrm>
              <a:off x="857160" y="785880"/>
              <a:ext cx="313272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3" descr="D:\我的文档-桌面-收藏夹\桌面\蜥蜴.jpg"/>
            <p:cNvPicPr/>
            <p:nvPr/>
          </p:nvPicPr>
          <p:blipFill>
            <a:blip r:embed="rId10"/>
            <a:stretch/>
          </p:blipFill>
          <p:spPr>
            <a:xfrm>
              <a:off x="5121360" y="785880"/>
              <a:ext cx="309384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5" descr="D:\我的文档-桌面-收藏夹\桌面\狐狸.jpg"/>
            <p:cNvPicPr/>
            <p:nvPr/>
          </p:nvPicPr>
          <p:blipFill>
            <a:blip r:embed="rId11"/>
            <a:stretch/>
          </p:blipFill>
          <p:spPr>
            <a:xfrm>
              <a:off x="5121360" y="3929040"/>
              <a:ext cx="309384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4" name="圆角矩形 6"/>
          <p:cNvSpPr/>
          <p:nvPr/>
        </p:nvSpPr>
        <p:spPr>
          <a:xfrm>
            <a:off x="1571760" y="2786040"/>
            <a:ext cx="200016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丹顶鹤（</a:t>
            </a:r>
            <a:r>
              <a:rPr b="0" lang="en-US" sz="2500" spc="-1" strike="noStrike">
                <a:solidFill>
                  <a:srgbClr val="1c1c1c"/>
                </a:solidFill>
                <a:latin typeface="EU-B1X"/>
                <a:ea typeface="EU-B1X"/>
              </a:rPr>
              <a:t>hè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圆角矩形 7"/>
          <p:cNvSpPr/>
          <p:nvPr/>
        </p:nvSpPr>
        <p:spPr>
          <a:xfrm>
            <a:off x="5357880" y="2786040"/>
            <a:ext cx="271440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蜥（</a:t>
            </a:r>
            <a:r>
              <a:rPr b="0" lang="en-US" sz="2500" spc="-1" strike="noStrike">
                <a:solidFill>
                  <a:srgbClr val="1c1c1c"/>
                </a:solidFill>
                <a:latin typeface="EU-B1X"/>
                <a:ea typeface="EU-B1X"/>
              </a:rPr>
              <a:t>xī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）蜴（</a:t>
            </a:r>
            <a:r>
              <a:rPr b="0" lang="en-US" sz="2500" spc="-1" strike="noStrike">
                <a:solidFill>
                  <a:srgbClr val="1c1c1c"/>
                </a:solidFill>
                <a:latin typeface="EU-B1X"/>
                <a:ea typeface="EU-B1X"/>
              </a:rPr>
              <a:t>yì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圆角矩形 8"/>
          <p:cNvSpPr/>
          <p:nvPr/>
        </p:nvSpPr>
        <p:spPr>
          <a:xfrm>
            <a:off x="1357200" y="5786280"/>
            <a:ext cx="200052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麋（</a:t>
            </a:r>
            <a:r>
              <a:rPr b="0" lang="en-US" sz="2500" spc="-1" strike="noStrike">
                <a:solidFill>
                  <a:srgbClr val="1c1c1c"/>
                </a:solidFill>
                <a:latin typeface="EU-B1X"/>
                <a:ea typeface="EU-B1X"/>
              </a:rPr>
              <a:t>mí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）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圆角矩形 9"/>
          <p:cNvSpPr/>
          <p:nvPr/>
        </p:nvSpPr>
        <p:spPr>
          <a:xfrm>
            <a:off x="5786280" y="5786280"/>
            <a:ext cx="157176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狐  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285840" y="2286000"/>
          <a:ext cx="4429080" cy="221472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</a:tblGrid>
              <a:tr h="55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类群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种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鸟类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爬行类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哺乳类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9" name="TextBox 4"/>
          <p:cNvSpPr/>
          <p:nvPr/>
        </p:nvSpPr>
        <p:spPr>
          <a:xfrm>
            <a:off x="785880" y="1571760"/>
            <a:ext cx="36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中国湿地部分动物种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2"/>
          <p:cNvGrpSpPr/>
          <p:nvPr/>
        </p:nvGrpSpPr>
        <p:grpSpPr>
          <a:xfrm>
            <a:off x="0" y="101520"/>
            <a:ext cx="2795760" cy="525600"/>
            <a:chOff x="0" y="101520"/>
            <a:chExt cx="2795760" cy="525600"/>
          </a:xfrm>
        </p:grpSpPr>
        <p:pic>
          <p:nvPicPr>
            <p:cNvPr id="1021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25640" y="101520"/>
              <a:ext cx="26701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2" name="组合 4"/>
            <p:cNvGrpSpPr/>
            <p:nvPr/>
          </p:nvGrpSpPr>
          <p:grpSpPr>
            <a:xfrm>
              <a:off x="0" y="197280"/>
              <a:ext cx="369000" cy="272160"/>
              <a:chOff x="0" y="197280"/>
              <a:chExt cx="369000" cy="272160"/>
            </a:xfrm>
          </p:grpSpPr>
          <p:sp>
            <p:nvSpPr>
              <p:cNvPr id="1023" name="椭圆 6"/>
              <p:cNvSpPr/>
              <p:nvPr/>
            </p:nvSpPr>
            <p:spPr>
              <a:xfrm rot="16200000">
                <a:off x="229320" y="363600"/>
                <a:ext cx="954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760" y="339480"/>
                <a:ext cx="20124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椭圆 9"/>
              <p:cNvSpPr/>
              <p:nvPr/>
            </p:nvSpPr>
            <p:spPr>
              <a:xfrm rot="16200000">
                <a:off x="229320" y="241200"/>
                <a:ext cx="954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6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760" y="213480"/>
                <a:ext cx="20124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9808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808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圆角矩形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9808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0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9808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31" name="组合 16"/>
          <p:cNvGrpSpPr/>
          <p:nvPr/>
        </p:nvGrpSpPr>
        <p:grpSpPr>
          <a:xfrm>
            <a:off x="5021280" y="2714760"/>
            <a:ext cx="4076640" cy="1396800"/>
            <a:chOff x="5021280" y="2714760"/>
            <a:chExt cx="4076640" cy="1396800"/>
          </a:xfrm>
        </p:grpSpPr>
        <p:sp>
          <p:nvSpPr>
            <p:cNvPr id="1032" name="AutoShape 27"/>
            <p:cNvSpPr/>
            <p:nvPr/>
          </p:nvSpPr>
          <p:spPr>
            <a:xfrm>
              <a:off x="5021280" y="2714760"/>
              <a:ext cx="2928240" cy="121392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湿地孕育了丰富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样的野生动物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3" name="图片 1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8337960" y="3301920"/>
              <a:ext cx="75996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Box 1"/>
          <p:cNvSpPr/>
          <p:nvPr/>
        </p:nvSpPr>
        <p:spPr>
          <a:xfrm>
            <a:off x="880920" y="642960"/>
            <a:ext cx="7786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国湿地鸟类和爬行类动物一共有多少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4"/>
          <p:cNvSpPr/>
          <p:nvPr/>
        </p:nvSpPr>
        <p:spPr>
          <a:xfrm>
            <a:off x="2357280" y="1285920"/>
            <a:ext cx="2714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71+122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785880" y="2000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想一想：竖式应该怎样写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22"/>
          <p:cNvGrpSpPr/>
          <p:nvPr/>
        </p:nvGrpSpPr>
        <p:grpSpPr>
          <a:xfrm>
            <a:off x="2571840" y="2999520"/>
            <a:ext cx="1357200" cy="1572480"/>
            <a:chOff x="2571840" y="2999520"/>
            <a:chExt cx="1357200" cy="1572480"/>
          </a:xfrm>
        </p:grpSpPr>
        <p:sp>
          <p:nvSpPr>
            <p:cNvPr id="1038" name="圆角矩形 10"/>
            <p:cNvSpPr/>
            <p:nvPr/>
          </p:nvSpPr>
          <p:spPr>
            <a:xfrm>
              <a:off x="2571840" y="3571920"/>
              <a:ext cx="571320" cy="1000080"/>
            </a:xfrm>
            <a:custGeom>
              <a:avLst/>
              <a:gdLst>
                <a:gd name="textAreaLeft" fmla="*/ 27720 w 571320"/>
                <a:gd name="textAreaRight" fmla="*/ 543600 w 571320"/>
                <a:gd name="textAreaTop" fmla="*/ 27720 h 1000080"/>
                <a:gd name="textAreaBottom" fmla="*/ 972360 h 1000080"/>
              </a:gdLst>
              <a:ahLst/>
              <a:rect l="textAreaLeft" t="textAreaTop" r="textAreaRight" b="textAreaBottom"/>
              <a:pathLst>
                <a:path w="21600" h="37800">
                  <a:moveTo>
                    <a:pt x="3600" y="0"/>
                  </a:moveTo>
                  <a:arcTo wR="3600" hR="3600" stAng="16200000" swAng="-5400000"/>
                  <a:lnTo>
                    <a:pt x="0" y="34200"/>
                  </a:lnTo>
                  <a:arcTo wR="3600" hR="3600" stAng="10800000" swAng="-5400000"/>
                  <a:lnTo>
                    <a:pt x="18000" y="37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9" name="直接箭头连接符 11"/>
            <p:cNvCxnSpPr/>
            <p:nvPr/>
          </p:nvCxnSpPr>
          <p:spPr>
            <a:xfrm flipV="1">
              <a:off x="2856960" y="2999520"/>
              <a:ext cx="1072440" cy="5720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40" name="TextBox 12"/>
          <p:cNvSpPr/>
          <p:nvPr/>
        </p:nvSpPr>
        <p:spPr>
          <a:xfrm>
            <a:off x="3857760" y="2714760"/>
            <a:ext cx="164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先加个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18"/>
          <p:cNvGrpSpPr/>
          <p:nvPr/>
        </p:nvGrpSpPr>
        <p:grpSpPr>
          <a:xfrm>
            <a:off x="714240" y="3429000"/>
            <a:ext cx="3571920" cy="1857240"/>
            <a:chOff x="714240" y="3429000"/>
            <a:chExt cx="3571920" cy="1857240"/>
          </a:xfrm>
        </p:grpSpPr>
        <p:grpSp>
          <p:nvGrpSpPr>
            <p:cNvPr id="1042" name="组合 11"/>
            <p:cNvGrpSpPr/>
            <p:nvPr/>
          </p:nvGrpSpPr>
          <p:grpSpPr>
            <a:xfrm>
              <a:off x="714240" y="3429000"/>
              <a:ext cx="3571920" cy="1571760"/>
              <a:chOff x="714240" y="3429000"/>
              <a:chExt cx="3571920" cy="1571760"/>
            </a:xfrm>
          </p:grpSpPr>
          <p:sp>
            <p:nvSpPr>
              <p:cNvPr id="1043" name="TextBox 7"/>
              <p:cNvSpPr/>
              <p:nvPr/>
            </p:nvSpPr>
            <p:spPr>
              <a:xfrm>
                <a:off x="714240" y="3429000"/>
                <a:ext cx="3571920" cy="15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   7   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+ 1   2   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直接连接符 8"/>
              <p:cNvSpPr/>
              <p:nvPr/>
            </p:nvSpPr>
            <p:spPr>
              <a:xfrm>
                <a:off x="1142640" y="4643640"/>
                <a:ext cx="2143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矩形 14"/>
            <p:cNvSpPr/>
            <p:nvPr/>
          </p:nvSpPr>
          <p:spPr>
            <a:xfrm>
              <a:off x="1214280" y="471492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矩形 15"/>
            <p:cNvSpPr/>
            <p:nvPr/>
          </p:nvSpPr>
          <p:spPr>
            <a:xfrm>
              <a:off x="1857240" y="471492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16"/>
            <p:cNvSpPr/>
            <p:nvPr/>
          </p:nvSpPr>
          <p:spPr>
            <a:xfrm>
              <a:off x="2571480" y="4714920"/>
              <a:ext cx="57132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TextBox 23"/>
          <p:cNvSpPr/>
          <p:nvPr/>
        </p:nvSpPr>
        <p:spPr>
          <a:xfrm>
            <a:off x="2714760" y="473868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24"/>
          <p:cNvSpPr/>
          <p:nvPr/>
        </p:nvSpPr>
        <p:spPr>
          <a:xfrm>
            <a:off x="1928880" y="473868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25"/>
          <p:cNvSpPr/>
          <p:nvPr/>
        </p:nvSpPr>
        <p:spPr>
          <a:xfrm>
            <a:off x="1357200" y="47386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26"/>
          <p:cNvSpPr/>
          <p:nvPr/>
        </p:nvSpPr>
        <p:spPr>
          <a:xfrm>
            <a:off x="3786120" y="123660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9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55" name="椭圆 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3" name="八边形 2"/>
          <p:cNvSpPr/>
          <p:nvPr/>
        </p:nvSpPr>
        <p:spPr>
          <a:xfrm>
            <a:off x="271440" y="76824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组合 6"/>
          <p:cNvGrpSpPr/>
          <p:nvPr/>
        </p:nvGrpSpPr>
        <p:grpSpPr>
          <a:xfrm>
            <a:off x="4807080" y="3821040"/>
            <a:ext cx="4044960" cy="1179720"/>
            <a:chOff x="4807080" y="3821040"/>
            <a:chExt cx="4044960" cy="1179720"/>
          </a:xfrm>
        </p:grpSpPr>
        <p:sp>
          <p:nvSpPr>
            <p:cNvPr id="1065" name="AutoShape 27"/>
            <p:cNvSpPr/>
            <p:nvPr/>
          </p:nvSpPr>
          <p:spPr>
            <a:xfrm>
              <a:off x="4807080" y="3821040"/>
              <a:ext cx="2622600" cy="82224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从哪一位加起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4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7857000" y="3940200"/>
              <a:ext cx="995040" cy="1060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Box 1"/>
          <p:cNvSpPr/>
          <p:nvPr/>
        </p:nvSpPr>
        <p:spPr>
          <a:xfrm>
            <a:off x="1071720" y="768240"/>
            <a:ext cx="7786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国湿地鸟类和哺乳类动物一共有多少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3"/>
          <p:cNvSpPr/>
          <p:nvPr/>
        </p:nvSpPr>
        <p:spPr>
          <a:xfrm>
            <a:off x="2643120" y="1571760"/>
            <a:ext cx="2714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71+31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4"/>
          <p:cNvSpPr/>
          <p:nvPr/>
        </p:nvSpPr>
        <p:spPr>
          <a:xfrm>
            <a:off x="1071720" y="22860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想一想：竖式应该怎样写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9"/>
          <p:cNvGrpSpPr/>
          <p:nvPr/>
        </p:nvGrpSpPr>
        <p:grpSpPr>
          <a:xfrm>
            <a:off x="5072040" y="3000240"/>
            <a:ext cx="3571920" cy="1857600"/>
            <a:chOff x="5072040" y="3000240"/>
            <a:chExt cx="3571920" cy="1857600"/>
          </a:xfrm>
        </p:grpSpPr>
        <p:grpSp>
          <p:nvGrpSpPr>
            <p:cNvPr id="1071" name="组合 11"/>
            <p:cNvGrpSpPr/>
            <p:nvPr/>
          </p:nvGrpSpPr>
          <p:grpSpPr>
            <a:xfrm>
              <a:off x="5072040" y="3000240"/>
              <a:ext cx="3571920" cy="1571760"/>
              <a:chOff x="5072040" y="3000240"/>
              <a:chExt cx="3571920" cy="1571760"/>
            </a:xfrm>
          </p:grpSpPr>
          <p:sp>
            <p:nvSpPr>
              <p:cNvPr id="1072" name="TextBox 14"/>
              <p:cNvSpPr/>
              <p:nvPr/>
            </p:nvSpPr>
            <p:spPr>
              <a:xfrm>
                <a:off x="5072040" y="3000240"/>
                <a:ext cx="3571920" cy="15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   7   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+     3   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   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直接连接符 15"/>
              <p:cNvSpPr/>
              <p:nvPr/>
            </p:nvSpPr>
            <p:spPr>
              <a:xfrm>
                <a:off x="5643360" y="4214880"/>
                <a:ext cx="200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4" name="矩形 11"/>
            <p:cNvSpPr/>
            <p:nvPr/>
          </p:nvSpPr>
          <p:spPr>
            <a:xfrm>
              <a:off x="5929200" y="4286160"/>
              <a:ext cx="57132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矩形 12"/>
            <p:cNvSpPr/>
            <p:nvPr/>
          </p:nvSpPr>
          <p:spPr>
            <a:xfrm>
              <a:off x="6572160" y="4286160"/>
              <a:ext cx="57132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TextBox 20"/>
          <p:cNvSpPr/>
          <p:nvPr/>
        </p:nvSpPr>
        <p:spPr>
          <a:xfrm>
            <a:off x="6715080" y="43084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21"/>
          <p:cNvSpPr/>
          <p:nvPr/>
        </p:nvSpPr>
        <p:spPr>
          <a:xfrm>
            <a:off x="6072120" y="43084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22"/>
          <p:cNvSpPr/>
          <p:nvPr/>
        </p:nvSpPr>
        <p:spPr>
          <a:xfrm>
            <a:off x="3857760" y="1522440"/>
            <a:ext cx="71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51"/>
          <p:cNvSpPr/>
          <p:nvPr/>
        </p:nvSpPr>
        <p:spPr>
          <a:xfrm>
            <a:off x="6497640" y="39290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3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椭圆 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1" name="八边形 14"/>
          <p:cNvSpPr/>
          <p:nvPr/>
        </p:nvSpPr>
        <p:spPr>
          <a:xfrm>
            <a:off x="271440" y="76824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组合 17"/>
          <p:cNvGrpSpPr/>
          <p:nvPr/>
        </p:nvGrpSpPr>
        <p:grpSpPr>
          <a:xfrm>
            <a:off x="885960" y="3405240"/>
            <a:ext cx="3971520" cy="1060560"/>
            <a:chOff x="885960" y="3405240"/>
            <a:chExt cx="3971520" cy="1060560"/>
          </a:xfrm>
        </p:grpSpPr>
        <p:sp>
          <p:nvSpPr>
            <p:cNvPr id="1093" name="AutoShape 27"/>
            <p:cNvSpPr/>
            <p:nvPr/>
          </p:nvSpPr>
          <p:spPr>
            <a:xfrm>
              <a:off x="2500920" y="3643200"/>
              <a:ext cx="2356560" cy="822240"/>
            </a:xfrm>
            <a:prstGeom prst="wedgeRoundRectCallout">
              <a:avLst>
                <a:gd name="adj1" fmla="val -66712"/>
                <a:gd name="adj2" fmla="val -135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十位上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3+7=1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怎样写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4" name="图片 16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885960" y="3405240"/>
              <a:ext cx="994680" cy="1060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Box 1"/>
          <p:cNvSpPr/>
          <p:nvPr/>
        </p:nvSpPr>
        <p:spPr>
          <a:xfrm>
            <a:off x="998640" y="627120"/>
            <a:ext cx="4714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想一想：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71+90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怎样计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4"/>
          <p:cNvGrpSpPr/>
          <p:nvPr/>
        </p:nvGrpSpPr>
        <p:grpSpPr>
          <a:xfrm>
            <a:off x="1285920" y="1000080"/>
            <a:ext cx="3857760" cy="1857600"/>
            <a:chOff x="1285920" y="1000080"/>
            <a:chExt cx="3857760" cy="1857600"/>
          </a:xfrm>
        </p:grpSpPr>
        <p:grpSp>
          <p:nvGrpSpPr>
            <p:cNvPr id="1097" name="组合 11"/>
            <p:cNvGrpSpPr/>
            <p:nvPr/>
          </p:nvGrpSpPr>
          <p:grpSpPr>
            <a:xfrm>
              <a:off x="1285920" y="1000080"/>
              <a:ext cx="3857760" cy="1643400"/>
              <a:chOff x="1285920" y="1000080"/>
              <a:chExt cx="3857760" cy="1643400"/>
            </a:xfrm>
          </p:grpSpPr>
          <p:sp>
            <p:nvSpPr>
              <p:cNvPr id="1098" name="TextBox 8"/>
              <p:cNvSpPr/>
              <p:nvPr/>
            </p:nvSpPr>
            <p:spPr>
              <a:xfrm>
                <a:off x="1285920" y="1000080"/>
                <a:ext cx="3857760" cy="164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   7   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+   9   0   3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     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7   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直接连接符 9"/>
              <p:cNvSpPr/>
              <p:nvPr/>
            </p:nvSpPr>
            <p:spPr>
              <a:xfrm>
                <a:off x="1357200" y="2214720"/>
                <a:ext cx="2500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矩形 6"/>
            <p:cNvSpPr/>
            <p:nvPr/>
          </p:nvSpPr>
          <p:spPr>
            <a:xfrm>
              <a:off x="2143080" y="2286000"/>
              <a:ext cx="57132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13"/>
            <p:cNvSpPr/>
            <p:nvPr/>
          </p:nvSpPr>
          <p:spPr>
            <a:xfrm>
              <a:off x="1428480" y="2286000"/>
              <a:ext cx="57132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TextBox 11"/>
          <p:cNvSpPr/>
          <p:nvPr/>
        </p:nvSpPr>
        <p:spPr>
          <a:xfrm>
            <a:off x="2286000" y="23572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51"/>
          <p:cNvSpPr/>
          <p:nvPr/>
        </p:nvSpPr>
        <p:spPr>
          <a:xfrm>
            <a:off x="2068560" y="19288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15"/>
          <p:cNvSpPr/>
          <p:nvPr/>
        </p:nvSpPr>
        <p:spPr>
          <a:xfrm>
            <a:off x="1571760" y="2308320"/>
            <a:ext cx="428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组合 4"/>
          <p:cNvGrpSpPr/>
          <p:nvPr/>
        </p:nvGrpSpPr>
        <p:grpSpPr>
          <a:xfrm>
            <a:off x="4643280" y="1428840"/>
            <a:ext cx="3579840" cy="1000080"/>
            <a:chOff x="4643280" y="1428840"/>
            <a:chExt cx="3579840" cy="1000080"/>
          </a:xfrm>
        </p:grpSpPr>
        <p:sp>
          <p:nvSpPr>
            <p:cNvPr id="1106" name="AutoShape 27"/>
            <p:cNvSpPr/>
            <p:nvPr/>
          </p:nvSpPr>
          <p:spPr>
            <a:xfrm>
              <a:off x="4643280" y="1428840"/>
              <a:ext cx="2356920" cy="100008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百位上相加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十，怎么办？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7" name="Picture 4" descr="C:\Documents and Settings\Administrator\桌面\人\8.gif8"/>
            <p:cNvPicPr/>
            <p:nvPr/>
          </p:nvPicPr>
          <p:blipFill>
            <a:blip r:embed="rId1"/>
            <a:stretch/>
          </p:blipFill>
          <p:spPr>
            <a:xfrm>
              <a:off x="7329960" y="1490760"/>
              <a:ext cx="893160" cy="9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8" name="TextBox 1"/>
          <p:cNvSpPr/>
          <p:nvPr/>
        </p:nvSpPr>
        <p:spPr>
          <a:xfrm>
            <a:off x="642960" y="3286080"/>
            <a:ext cx="8072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组讨论：计算万以内的加法要注意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组合 17"/>
          <p:cNvGrpSpPr/>
          <p:nvPr/>
        </p:nvGrpSpPr>
        <p:grpSpPr>
          <a:xfrm>
            <a:off x="4929120" y="4048200"/>
            <a:ext cx="3251160" cy="809640"/>
            <a:chOff x="4929120" y="4048200"/>
            <a:chExt cx="3251160" cy="809640"/>
          </a:xfrm>
        </p:grpSpPr>
        <p:pic>
          <p:nvPicPr>
            <p:cNvPr id="1110" name="Picture 2" descr="D:\我的文档-桌面-收藏夹\桌面\1.jpg"/>
            <p:cNvPicPr/>
            <p:nvPr/>
          </p:nvPicPr>
          <p:blipFill>
            <a:blip r:embed="rId2"/>
            <a:stretch/>
          </p:blipFill>
          <p:spPr>
            <a:xfrm flipH="1">
              <a:off x="7430040" y="4048200"/>
              <a:ext cx="75024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AutoShape 27"/>
            <p:cNvSpPr/>
            <p:nvPr/>
          </p:nvSpPr>
          <p:spPr>
            <a:xfrm>
              <a:off x="4929120" y="4071960"/>
              <a:ext cx="2215080" cy="714600"/>
            </a:xfrm>
            <a:prstGeom prst="wedgeRoundRectCallout">
              <a:avLst>
                <a:gd name="adj1" fmla="val 58407"/>
                <a:gd name="adj2" fmla="val 6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从个位加起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组合 18"/>
          <p:cNvGrpSpPr/>
          <p:nvPr/>
        </p:nvGrpSpPr>
        <p:grpSpPr>
          <a:xfrm>
            <a:off x="1642680" y="3946680"/>
            <a:ext cx="3072240" cy="911160"/>
            <a:chOff x="1642680" y="3946680"/>
            <a:chExt cx="3072240" cy="911160"/>
          </a:xfrm>
        </p:grpSpPr>
        <p:pic>
          <p:nvPicPr>
            <p:cNvPr id="1113" name="Picture 3" descr="D:\我的文档-桌面-收藏夹\桌面\2.jpg"/>
            <p:cNvPicPr/>
            <p:nvPr/>
          </p:nvPicPr>
          <p:blipFill>
            <a:blip r:embed="rId3"/>
            <a:stretch/>
          </p:blipFill>
          <p:spPr>
            <a:xfrm flipH="1">
              <a:off x="1642680" y="3946680"/>
              <a:ext cx="5713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AutoShape 27"/>
            <p:cNvSpPr/>
            <p:nvPr/>
          </p:nvSpPr>
          <p:spPr>
            <a:xfrm>
              <a:off x="2500200" y="4215240"/>
              <a:ext cx="2214720" cy="554400"/>
            </a:xfrm>
            <a:prstGeom prst="wedgeRoundRectCallout">
              <a:avLst>
                <a:gd name="adj1" fmla="val -60523"/>
                <a:gd name="adj2" fmla="val 152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相同数位对齐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组合 26"/>
          <p:cNvGrpSpPr/>
          <p:nvPr/>
        </p:nvGrpSpPr>
        <p:grpSpPr>
          <a:xfrm>
            <a:off x="2165400" y="5187960"/>
            <a:ext cx="5164200" cy="1071720"/>
            <a:chOff x="2165400" y="5187960"/>
            <a:chExt cx="5164200" cy="1071720"/>
          </a:xfrm>
        </p:grpSpPr>
        <p:pic>
          <p:nvPicPr>
            <p:cNvPr id="1116" name="Picture 2" descr="D:\我的文档-桌面-收藏夹\桌面\1.jpg"/>
            <p:cNvPicPr/>
            <p:nvPr/>
          </p:nvPicPr>
          <p:blipFill>
            <a:blip r:embed="rId4"/>
            <a:stretch/>
          </p:blipFill>
          <p:spPr>
            <a:xfrm>
              <a:off x="2165400" y="5335560"/>
              <a:ext cx="130608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AutoShape 27"/>
            <p:cNvSpPr/>
            <p:nvPr/>
          </p:nvSpPr>
          <p:spPr>
            <a:xfrm>
              <a:off x="3542760" y="5187960"/>
              <a:ext cx="3786840" cy="1071720"/>
            </a:xfrm>
            <a:prstGeom prst="wedgeRoundRectCallout">
              <a:avLst>
                <a:gd name="adj1" fmla="val -60652"/>
                <a:gd name="adj2" fmla="val 25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哪一位上的数相加满十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就要向前一位进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TextBox 29"/>
          <p:cNvSpPr/>
          <p:nvPr/>
        </p:nvSpPr>
        <p:spPr>
          <a:xfrm>
            <a:off x="1500120" y="235728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组合 2"/>
          <p:cNvGrpSpPr/>
          <p:nvPr/>
        </p:nvGrpSpPr>
        <p:grpSpPr>
          <a:xfrm>
            <a:off x="22320" y="101520"/>
            <a:ext cx="3244680" cy="525600"/>
            <a:chOff x="22320" y="101520"/>
            <a:chExt cx="3244680" cy="525600"/>
          </a:xfrm>
        </p:grpSpPr>
        <p:pic>
          <p:nvPicPr>
            <p:cNvPr id="1120" name="圆角矩形 8" descr=""/>
            <p:cNvPicPr/>
            <p:nvPr/>
          </p:nvPicPr>
          <p:blipFill>
            <a:blip r:embed="rId5"/>
            <a:stretch/>
          </p:blipFill>
          <p:spPr>
            <a:xfrm>
              <a:off x="17280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1" name="组合 4"/>
            <p:cNvGrpSpPr/>
            <p:nvPr/>
          </p:nvGrpSpPr>
          <p:grpSpPr>
            <a:xfrm>
              <a:off x="22320" y="197280"/>
              <a:ext cx="429840" cy="271800"/>
              <a:chOff x="22320" y="197280"/>
              <a:chExt cx="429840" cy="271800"/>
            </a:xfrm>
          </p:grpSpPr>
          <p:sp>
            <p:nvSpPr>
              <p:cNvPr id="1122" name="椭圆 13"/>
              <p:cNvSpPr/>
              <p:nvPr/>
            </p:nvSpPr>
            <p:spPr>
              <a:xfrm rot="16200000">
                <a:off x="26532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3" name="椭圆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24048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4" name="椭圆 16"/>
              <p:cNvSpPr/>
              <p:nvPr/>
            </p:nvSpPr>
            <p:spPr>
              <a:xfrm rot="16200000">
                <a:off x="26532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5" name="椭圆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24048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2232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圆角矩形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2232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32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32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0" name="八边形 23"/>
          <p:cNvSpPr/>
          <p:nvPr/>
        </p:nvSpPr>
        <p:spPr>
          <a:xfrm>
            <a:off x="203040" y="75240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文本框 8"/>
          <p:cNvSpPr/>
          <p:nvPr/>
        </p:nvSpPr>
        <p:spPr>
          <a:xfrm>
            <a:off x="635040" y="923760"/>
            <a:ext cx="78739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三位数加三位数（不连续进位）的计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13"/>
          <p:cNvSpPr/>
          <p:nvPr/>
        </p:nvSpPr>
        <p:spPr>
          <a:xfrm>
            <a:off x="523800" y="1906560"/>
            <a:ext cx="76485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位数加三位数，先把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相同数位对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然后从个位加起。哪位从个位加起。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哪一位上的数相加满十，就向前一位进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36" name="椭圆 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7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8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9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2" name="圆角矩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圆角矩形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4" name="TextBox 1"/>
          <p:cNvSpPr/>
          <p:nvPr/>
        </p:nvSpPr>
        <p:spPr>
          <a:xfrm>
            <a:off x="285840" y="639720"/>
            <a:ext cx="221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列竖式计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组合 11"/>
          <p:cNvGrpSpPr/>
          <p:nvPr/>
        </p:nvGrpSpPr>
        <p:grpSpPr>
          <a:xfrm>
            <a:off x="357120" y="1639800"/>
            <a:ext cx="1643040" cy="1571760"/>
            <a:chOff x="357120" y="1639800"/>
            <a:chExt cx="1643040" cy="1571760"/>
          </a:xfrm>
        </p:grpSpPr>
        <p:sp>
          <p:nvSpPr>
            <p:cNvPr id="1146" name="TextBox 10"/>
            <p:cNvSpPr/>
            <p:nvPr/>
          </p:nvSpPr>
          <p:spPr>
            <a:xfrm>
              <a:off x="357120" y="163980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1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   8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9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直接连接符 11"/>
            <p:cNvSpPr/>
            <p:nvPr/>
          </p:nvSpPr>
          <p:spPr>
            <a:xfrm>
              <a:off x="499680" y="285444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TextBox 1"/>
          <p:cNvSpPr/>
          <p:nvPr/>
        </p:nvSpPr>
        <p:spPr>
          <a:xfrm>
            <a:off x="285840" y="1211400"/>
            <a:ext cx="84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19+80        476+121        93+802       545+5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14"/>
          <p:cNvSpPr/>
          <p:nvPr/>
        </p:nvSpPr>
        <p:spPr>
          <a:xfrm>
            <a:off x="1285920" y="121140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99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15"/>
          <p:cNvSpPr/>
          <p:nvPr/>
        </p:nvSpPr>
        <p:spPr>
          <a:xfrm>
            <a:off x="3714840" y="121140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59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6"/>
          <p:cNvSpPr/>
          <p:nvPr/>
        </p:nvSpPr>
        <p:spPr>
          <a:xfrm>
            <a:off x="5929200" y="121140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89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17"/>
          <p:cNvSpPr/>
          <p:nvPr/>
        </p:nvSpPr>
        <p:spPr>
          <a:xfrm>
            <a:off x="8001000" y="1211400"/>
            <a:ext cx="121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59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组合 11"/>
          <p:cNvGrpSpPr/>
          <p:nvPr/>
        </p:nvGrpSpPr>
        <p:grpSpPr>
          <a:xfrm>
            <a:off x="2643120" y="1639800"/>
            <a:ext cx="1643040" cy="1571760"/>
            <a:chOff x="2643120" y="1639800"/>
            <a:chExt cx="1643040" cy="1571760"/>
          </a:xfrm>
        </p:grpSpPr>
        <p:sp>
          <p:nvSpPr>
            <p:cNvPr id="1154" name="TextBox 23"/>
            <p:cNvSpPr/>
            <p:nvPr/>
          </p:nvSpPr>
          <p:spPr>
            <a:xfrm>
              <a:off x="2643120" y="163980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7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 1 2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9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直接连接符 24"/>
            <p:cNvSpPr/>
            <p:nvPr/>
          </p:nvSpPr>
          <p:spPr>
            <a:xfrm>
              <a:off x="2785680" y="285444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组合 11"/>
          <p:cNvGrpSpPr/>
          <p:nvPr/>
        </p:nvGrpSpPr>
        <p:grpSpPr>
          <a:xfrm>
            <a:off x="5072040" y="1639800"/>
            <a:ext cx="1643040" cy="1571760"/>
            <a:chOff x="5072040" y="1639800"/>
            <a:chExt cx="1643040" cy="1571760"/>
          </a:xfrm>
        </p:grpSpPr>
        <p:sp>
          <p:nvSpPr>
            <p:cNvPr id="1157" name="TextBox 26"/>
            <p:cNvSpPr/>
            <p:nvPr/>
          </p:nvSpPr>
          <p:spPr>
            <a:xfrm>
              <a:off x="5072040" y="163980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 8 0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8 9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直接连接符 27"/>
            <p:cNvSpPr/>
            <p:nvPr/>
          </p:nvSpPr>
          <p:spPr>
            <a:xfrm>
              <a:off x="5214600" y="285444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组合 11"/>
          <p:cNvGrpSpPr/>
          <p:nvPr/>
        </p:nvGrpSpPr>
        <p:grpSpPr>
          <a:xfrm>
            <a:off x="7072200" y="1639800"/>
            <a:ext cx="1643040" cy="1571760"/>
            <a:chOff x="7072200" y="1639800"/>
            <a:chExt cx="1643040" cy="1571760"/>
          </a:xfrm>
        </p:grpSpPr>
        <p:sp>
          <p:nvSpPr>
            <p:cNvPr id="1160" name="TextBox 29"/>
            <p:cNvSpPr/>
            <p:nvPr/>
          </p:nvSpPr>
          <p:spPr>
            <a:xfrm>
              <a:off x="7072200" y="163980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4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   5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9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直接连接符 30"/>
            <p:cNvSpPr/>
            <p:nvPr/>
          </p:nvSpPr>
          <p:spPr>
            <a:xfrm>
              <a:off x="7214760" y="285444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组合 11"/>
          <p:cNvGrpSpPr/>
          <p:nvPr/>
        </p:nvGrpSpPr>
        <p:grpSpPr>
          <a:xfrm>
            <a:off x="357120" y="4140360"/>
            <a:ext cx="1643040" cy="1571400"/>
            <a:chOff x="357120" y="4140360"/>
            <a:chExt cx="1643040" cy="1571400"/>
          </a:xfrm>
        </p:grpSpPr>
        <p:sp>
          <p:nvSpPr>
            <p:cNvPr id="1163" name="TextBox 32"/>
            <p:cNvSpPr/>
            <p:nvPr/>
          </p:nvSpPr>
          <p:spPr>
            <a:xfrm>
              <a:off x="357120" y="414036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6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 8 2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1 9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直接连接符 33"/>
            <p:cNvSpPr/>
            <p:nvPr/>
          </p:nvSpPr>
          <p:spPr>
            <a:xfrm>
              <a:off x="499680" y="535464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TextBox 1"/>
          <p:cNvSpPr/>
          <p:nvPr/>
        </p:nvSpPr>
        <p:spPr>
          <a:xfrm>
            <a:off x="285840" y="3711600"/>
            <a:ext cx="84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65+825        719+252        281+64        65+9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35"/>
          <p:cNvSpPr/>
          <p:nvPr/>
        </p:nvSpPr>
        <p:spPr>
          <a:xfrm>
            <a:off x="1500120" y="371160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1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36"/>
          <p:cNvSpPr/>
          <p:nvPr/>
        </p:nvSpPr>
        <p:spPr>
          <a:xfrm>
            <a:off x="3786120" y="371160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97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37"/>
          <p:cNvSpPr/>
          <p:nvPr/>
        </p:nvSpPr>
        <p:spPr>
          <a:xfrm>
            <a:off x="6072120" y="3711600"/>
            <a:ext cx="121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38"/>
          <p:cNvSpPr/>
          <p:nvPr/>
        </p:nvSpPr>
        <p:spPr>
          <a:xfrm>
            <a:off x="8072280" y="3711600"/>
            <a:ext cx="85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5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组合 11"/>
          <p:cNvGrpSpPr/>
          <p:nvPr/>
        </p:nvGrpSpPr>
        <p:grpSpPr>
          <a:xfrm>
            <a:off x="2643120" y="4140360"/>
            <a:ext cx="1643040" cy="1571400"/>
            <a:chOff x="2643120" y="4140360"/>
            <a:chExt cx="1643040" cy="1571400"/>
          </a:xfrm>
        </p:grpSpPr>
        <p:sp>
          <p:nvSpPr>
            <p:cNvPr id="1171" name="TextBox 40"/>
            <p:cNvSpPr/>
            <p:nvPr/>
          </p:nvSpPr>
          <p:spPr>
            <a:xfrm>
              <a:off x="2643120" y="414036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1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 2 5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9 7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直接连接符 41"/>
            <p:cNvSpPr/>
            <p:nvPr/>
          </p:nvSpPr>
          <p:spPr>
            <a:xfrm>
              <a:off x="2785680" y="535464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组合 11"/>
          <p:cNvGrpSpPr/>
          <p:nvPr/>
        </p:nvGrpSpPr>
        <p:grpSpPr>
          <a:xfrm>
            <a:off x="5072040" y="4140360"/>
            <a:ext cx="1643040" cy="1571400"/>
            <a:chOff x="5072040" y="4140360"/>
            <a:chExt cx="1643040" cy="1571400"/>
          </a:xfrm>
        </p:grpSpPr>
        <p:sp>
          <p:nvSpPr>
            <p:cNvPr id="1174" name="TextBox 43"/>
            <p:cNvSpPr/>
            <p:nvPr/>
          </p:nvSpPr>
          <p:spPr>
            <a:xfrm>
              <a:off x="5072040" y="414036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8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   6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4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直接连接符 44"/>
            <p:cNvSpPr/>
            <p:nvPr/>
          </p:nvSpPr>
          <p:spPr>
            <a:xfrm>
              <a:off x="5214600" y="535464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组合 11"/>
          <p:cNvGrpSpPr/>
          <p:nvPr/>
        </p:nvGrpSpPr>
        <p:grpSpPr>
          <a:xfrm>
            <a:off x="7072200" y="4140360"/>
            <a:ext cx="1643040" cy="1571400"/>
            <a:chOff x="7072200" y="4140360"/>
            <a:chExt cx="1643040" cy="1571400"/>
          </a:xfrm>
        </p:grpSpPr>
        <p:sp>
          <p:nvSpPr>
            <p:cNvPr id="1177" name="TextBox 46"/>
            <p:cNvSpPr/>
            <p:nvPr/>
          </p:nvSpPr>
          <p:spPr>
            <a:xfrm>
              <a:off x="7072200" y="414036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6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+   9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5</a:t>
              </a: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直接连接符 47"/>
            <p:cNvSpPr/>
            <p:nvPr/>
          </p:nvSpPr>
          <p:spPr>
            <a:xfrm>
              <a:off x="7214760" y="5354640"/>
              <a:ext cx="1428840" cy="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82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0" name="文本框 99"/>
          <p:cNvSpPr/>
          <p:nvPr/>
        </p:nvSpPr>
        <p:spPr>
          <a:xfrm>
            <a:off x="365040" y="625320"/>
            <a:ext cx="8239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列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8+73=           64+45=         49+8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65+179=         209+891=       79+98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"/>
          <p:cNvSpPr/>
          <p:nvPr/>
        </p:nvSpPr>
        <p:spPr>
          <a:xfrm>
            <a:off x="2201760" y="4143240"/>
            <a:ext cx="14335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6"/>
          <p:cNvSpPr/>
          <p:nvPr/>
        </p:nvSpPr>
        <p:spPr>
          <a:xfrm>
            <a:off x="1441440" y="939960"/>
            <a:ext cx="12398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组合 9"/>
          <p:cNvGrpSpPr/>
          <p:nvPr/>
        </p:nvGrpSpPr>
        <p:grpSpPr>
          <a:xfrm>
            <a:off x="179280" y="1552680"/>
            <a:ext cx="2436840" cy="1657080"/>
            <a:chOff x="179280" y="1552680"/>
            <a:chExt cx="2436840" cy="1657080"/>
          </a:xfrm>
        </p:grpSpPr>
        <p:sp>
          <p:nvSpPr>
            <p:cNvPr id="1194" name="文本框 1"/>
            <p:cNvSpPr/>
            <p:nvPr/>
          </p:nvSpPr>
          <p:spPr>
            <a:xfrm>
              <a:off x="179280" y="1552680"/>
              <a:ext cx="243684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   8</a:t>
              </a: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7  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直接连接符 4"/>
            <p:cNvSpPr/>
            <p:nvPr/>
          </p:nvSpPr>
          <p:spPr>
            <a:xfrm>
              <a:off x="364680" y="2688840"/>
              <a:ext cx="1433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文本框 8"/>
            <p:cNvSpPr/>
            <p:nvPr/>
          </p:nvSpPr>
          <p:spPr>
            <a:xfrm>
              <a:off x="471240" y="2688840"/>
              <a:ext cx="12409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3 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组合 10"/>
          <p:cNvGrpSpPr/>
          <p:nvPr/>
        </p:nvGrpSpPr>
        <p:grpSpPr>
          <a:xfrm>
            <a:off x="2952720" y="1655640"/>
            <a:ext cx="2436840" cy="1697040"/>
            <a:chOff x="2952720" y="1655640"/>
            <a:chExt cx="2436840" cy="1697040"/>
          </a:xfrm>
        </p:grpSpPr>
        <p:sp>
          <p:nvSpPr>
            <p:cNvPr id="1198" name="文本框 11"/>
            <p:cNvSpPr/>
            <p:nvPr/>
          </p:nvSpPr>
          <p:spPr>
            <a:xfrm>
              <a:off x="2952720" y="165564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  4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4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直接连接符 12"/>
            <p:cNvSpPr/>
            <p:nvPr/>
          </p:nvSpPr>
          <p:spPr>
            <a:xfrm>
              <a:off x="3138120" y="2831040"/>
              <a:ext cx="1433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文本框 13"/>
            <p:cNvSpPr/>
            <p:nvPr/>
          </p:nvSpPr>
          <p:spPr>
            <a:xfrm>
              <a:off x="3244680" y="2831040"/>
              <a:ext cx="124092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0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14"/>
          <p:cNvGrpSpPr/>
          <p:nvPr/>
        </p:nvGrpSpPr>
        <p:grpSpPr>
          <a:xfrm>
            <a:off x="5672160" y="1552680"/>
            <a:ext cx="2436840" cy="1657080"/>
            <a:chOff x="5672160" y="1552680"/>
            <a:chExt cx="2436840" cy="1657080"/>
          </a:xfrm>
        </p:grpSpPr>
        <p:sp>
          <p:nvSpPr>
            <p:cNvPr id="1202" name="文本框 15"/>
            <p:cNvSpPr/>
            <p:nvPr/>
          </p:nvSpPr>
          <p:spPr>
            <a:xfrm>
              <a:off x="5672160" y="155268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  9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8 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直接连接符 16"/>
            <p:cNvSpPr/>
            <p:nvPr/>
          </p:nvSpPr>
          <p:spPr>
            <a:xfrm>
              <a:off x="5857560" y="2688840"/>
              <a:ext cx="1433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文本框 17"/>
            <p:cNvSpPr/>
            <p:nvPr/>
          </p:nvSpPr>
          <p:spPr>
            <a:xfrm>
              <a:off x="5964120" y="2688840"/>
              <a:ext cx="12409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 3 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文本框 18"/>
          <p:cNvSpPr/>
          <p:nvPr/>
        </p:nvSpPr>
        <p:spPr>
          <a:xfrm>
            <a:off x="4486320" y="939960"/>
            <a:ext cx="124128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文本框 19"/>
          <p:cNvSpPr/>
          <p:nvPr/>
        </p:nvSpPr>
        <p:spPr>
          <a:xfrm>
            <a:off x="7205760" y="93996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组合 21"/>
          <p:cNvGrpSpPr/>
          <p:nvPr/>
        </p:nvGrpSpPr>
        <p:grpSpPr>
          <a:xfrm>
            <a:off x="181080" y="3827520"/>
            <a:ext cx="2436840" cy="1657440"/>
            <a:chOff x="181080" y="3827520"/>
            <a:chExt cx="2436840" cy="1657440"/>
          </a:xfrm>
        </p:grpSpPr>
        <p:sp>
          <p:nvSpPr>
            <p:cNvPr id="1208" name="文本框 22"/>
            <p:cNvSpPr/>
            <p:nvPr/>
          </p:nvSpPr>
          <p:spPr>
            <a:xfrm>
              <a:off x="181080" y="382752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6 5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1 7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直接连接符 23"/>
            <p:cNvSpPr/>
            <p:nvPr/>
          </p:nvSpPr>
          <p:spPr>
            <a:xfrm>
              <a:off x="365760" y="4963320"/>
              <a:ext cx="1433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文本框 24"/>
            <p:cNvSpPr/>
            <p:nvPr/>
          </p:nvSpPr>
          <p:spPr>
            <a:xfrm>
              <a:off x="778680" y="4963320"/>
              <a:ext cx="124092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4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文本框 25"/>
          <p:cNvSpPr/>
          <p:nvPr/>
        </p:nvSpPr>
        <p:spPr>
          <a:xfrm>
            <a:off x="1798560" y="310680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组合 26"/>
          <p:cNvGrpSpPr/>
          <p:nvPr/>
        </p:nvGrpSpPr>
        <p:grpSpPr>
          <a:xfrm>
            <a:off x="3138480" y="3825720"/>
            <a:ext cx="2436840" cy="1584360"/>
            <a:chOff x="3138480" y="3825720"/>
            <a:chExt cx="2436840" cy="1584360"/>
          </a:xfrm>
        </p:grpSpPr>
        <p:sp>
          <p:nvSpPr>
            <p:cNvPr id="1213" name="文本框 27"/>
            <p:cNvSpPr/>
            <p:nvPr/>
          </p:nvSpPr>
          <p:spPr>
            <a:xfrm>
              <a:off x="3138480" y="382572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 0 9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8 9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直接连接符 28"/>
            <p:cNvSpPr/>
            <p:nvPr/>
          </p:nvSpPr>
          <p:spPr>
            <a:xfrm>
              <a:off x="3323880" y="4962960"/>
              <a:ext cx="1433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文本框 35"/>
            <p:cNvSpPr/>
            <p:nvPr/>
          </p:nvSpPr>
          <p:spPr>
            <a:xfrm>
              <a:off x="3529440" y="4962960"/>
              <a:ext cx="165456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1 0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文本框 36"/>
          <p:cNvSpPr/>
          <p:nvPr/>
        </p:nvSpPr>
        <p:spPr>
          <a:xfrm>
            <a:off x="4834080" y="316872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组合 37"/>
          <p:cNvGrpSpPr/>
          <p:nvPr/>
        </p:nvGrpSpPr>
        <p:grpSpPr>
          <a:xfrm>
            <a:off x="5964120" y="3827520"/>
            <a:ext cx="2436840" cy="1584360"/>
            <a:chOff x="5964120" y="3827520"/>
            <a:chExt cx="2436840" cy="1584360"/>
          </a:xfrm>
        </p:grpSpPr>
        <p:sp>
          <p:nvSpPr>
            <p:cNvPr id="1218" name="文本框 38"/>
            <p:cNvSpPr/>
            <p:nvPr/>
          </p:nvSpPr>
          <p:spPr>
            <a:xfrm>
              <a:off x="5964120" y="3827520"/>
              <a:ext cx="2436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 9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9 8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直接连接符 39"/>
            <p:cNvSpPr/>
            <p:nvPr/>
          </p:nvSpPr>
          <p:spPr>
            <a:xfrm>
              <a:off x="6149520" y="4964760"/>
              <a:ext cx="14338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文本框 40"/>
            <p:cNvSpPr/>
            <p:nvPr/>
          </p:nvSpPr>
          <p:spPr>
            <a:xfrm>
              <a:off x="6355080" y="4964760"/>
              <a:ext cx="165456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0 6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文本框 41"/>
          <p:cNvSpPr/>
          <p:nvPr/>
        </p:nvSpPr>
        <p:spPr>
          <a:xfrm>
            <a:off x="7291440" y="310680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6:41Z</dcterms:created>
  <dc:creator/>
  <dc:description/>
  <dc:language>en-US</dc:language>
  <cp:lastModifiedBy>万润仪器贸易公司</cp:lastModifiedBy>
  <dcterms:modified xsi:type="dcterms:W3CDTF">2020-08-21T01:19:13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